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207-3DD4-4D10-89BD-025B8508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C6E-EA5B-47C8-AFAE-28FAB91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512-21CA-40BC-B253-2DF347F9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F4D-8E9E-4F50-9DCC-A2DD2076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40AF-2CF5-4E59-ABCC-4A77BC4C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ABC6-3E64-473C-B00F-123B6751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DEF3-1E27-41DC-BF6C-99CC8795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B51-D5C6-4D7C-B796-B6657DF5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3DDD-DD3A-4020-99E9-385BE7A5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9325-BD4D-48C4-8CFB-F3E54B7C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2AB1-4E66-4A3F-9F41-2B6DBA8D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52D-678A-4163-9954-03A3C70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965-ACB4-49DA-A489-ED5967E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CBEF-EE77-4105-8938-6C8DBFE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12C5-18C6-48BE-ACF2-931F8CAD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9759-7F78-49E6-BDA0-12A5786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FE0-894D-4567-B63E-AA0EB164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1F1-3098-40DF-8285-8D968037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9D4-063A-47A9-90D8-E6978E27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D84-2716-4789-A0B3-4444A958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301-A368-4CBB-9BF6-E743442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387-CCD9-4FD2-A277-D1920A6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84C-09E3-489D-82F5-61C713B4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F98-74DC-41F2-9AD5-6EC75A4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2BB7-84CF-48A9-8419-1C68E717E9B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ED43-3DB2-4541-8159-FAC7FC896EB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63640" y="330120"/>
            <a:ext cx="59072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Romance de Fajardo (fronterizo a. 1466 ó 1477</a:t>
            </a:r>
            <a:r>
              <a:rPr b="0" lang="es-MX" sz="1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ugando estaba el rey mo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aun al ajedrez un d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queste buen fajard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mor que le ten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Fajardo jugaba Lorc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el rey moro, Almería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aque le dio con el roque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 alférez le prend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 grandes voces dice el moro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La villa de Lorca es mía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 hablara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Calles, calles, señor rey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o toméis la tal porf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aunque me la ganases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la no se te dar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aballeros tengo dent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47840" y="617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7360" y="690480"/>
            <a:ext cx="341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e la defenderían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hablara rey mo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No juguemos más,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i tengamos más porfía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sois tan buen caballe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odo el mundo os temía”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25:03Z</dcterms:created>
  <dc:creator> </dc:creator>
  <dc:description/>
  <dc:language>en-US</dc:language>
  <cp:lastModifiedBy> </cp:lastModifiedBy>
  <dcterms:modified xsi:type="dcterms:W3CDTF">2007-09-28T22:44:30Z</dcterms:modified>
  <cp:revision>2</cp:revision>
  <dc:subject/>
  <dc:title>Diapositiva 1</dc:title>
</cp:coreProperties>
</file>